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2A4-729A-4739-ABE5-E9BB54EA1D0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DE7-0892-4ECF-99FB-7CCF8DEFAB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20D-0FCE-4541-A799-201FE107511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1C8B-B259-4FF1-BBB6-CF8FCC25DE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E75-ADEF-4E2E-9272-9844CFFD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FE3-713B-4C8F-82E4-7F7927F9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FF0-A40B-4C3F-9384-54B73966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EE8-57FB-4D05-8977-973F2263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942-45FE-4CDF-BD3F-E26ED01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263-5CBF-45D7-8677-C8F47D0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323-009D-4742-9042-9823119F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713-1D5C-4EA8-9081-21C8B2FF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EAE-588A-407D-B7CD-C647196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432-CC52-4363-8C17-51B9B9B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F0F-02F3-4AE2-A1A6-E40B275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976-7568-4EEE-84B8-F0DD75B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7D9-42B4-491F-9F9D-74EE05CCA6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71800" y="99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95280" y="234144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8120" y="204156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om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43760" y="2028960"/>
            <a:ext cx="106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sub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72000" y="2021040"/>
            <a:ext cx="121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40"/>
                </a:solidFill>
                <a:latin typeface="Arial"/>
              </a:rPr>
              <a:t>beb</a:t>
            </a:r>
            <a:r>
              <a:rPr b="1" lang="es-ES_tradnl" sz="2000" spc="-1" strike="noStrike">
                <a:solidFill>
                  <a:srgbClr val="800040"/>
                </a:solidFill>
                <a:latin typeface="Arial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41148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0400" y="156384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3"/>
          <p:cNvGrpSpPr/>
          <p:nvPr/>
        </p:nvGrpSpPr>
        <p:grpSpPr>
          <a:xfrm>
            <a:off x="1404360" y="4572000"/>
            <a:ext cx="6822720" cy="307080"/>
            <a:chOff x="1404360" y="4572000"/>
            <a:chExt cx="6822720" cy="307080"/>
          </a:xfrm>
        </p:grpSpPr>
        <p:sp>
          <p:nvSpPr>
            <p:cNvPr id="56" name="Rectangle 16"/>
            <p:cNvSpPr/>
            <p:nvPr/>
          </p:nvSpPr>
          <p:spPr>
            <a:xfrm>
              <a:off x="1404360" y="4572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PO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2407680" y="45720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3157200" y="45720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3742560" y="45720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DEC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4646160" y="4572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SAL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1"/>
            <p:cNvSpPr/>
            <p:nvPr/>
          </p:nvSpPr>
          <p:spPr>
            <a:xfrm>
              <a:off x="5579280" y="457200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VEN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6453720" y="45720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7424640" y="457200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4"/>
          <p:cNvSpPr/>
          <p:nvPr/>
        </p:nvSpPr>
        <p:spPr>
          <a:xfrm>
            <a:off x="1557360" y="4876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9156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3156840" y="48769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3948120" y="4876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793400" y="487692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571644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6662520" y="4876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7600680" y="48769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855000" y="48769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1523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nombres OD, OI y reflexivos (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 se pon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rás del verbo en Imperativo, formando una sola palab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1600" y="990720"/>
            <a:ext cx="49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IMPERATIVO Y LOS PRO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68480" y="559440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evarme estas fotos?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pero luego devuélve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la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64520" y="21495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dl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allí est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930400" y="214956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sa, pasa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iént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194080" y="21495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e perió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44960" y="2754360"/>
            <a:ext cx="60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 unir un pronombre al Imperativo se producen algunas mod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851760" y="3124080"/>
            <a:ext cx="51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arece una tilde cuando la palabra se convierte en esdrúj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068480" y="35053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118240" y="3505320"/>
            <a:ext cx="17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íra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856080" y="4006800"/>
            <a:ext cx="38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erde la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final delante del pronombr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068120" y="44038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071080" y="44038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ira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n el espe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38480" y="4959360"/>
            <a:ext cx="82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hay dos pronombres, el orden es OI + OD. Cuando los dos pronombres son de tercera person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 convierten e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882600" y="5594400"/>
            <a:ext cx="251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Quieres estos docum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o, dá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e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64448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17524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31960" y="1676520"/>
            <a:ext cx="26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frecer cosas o para invit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63440" y="2017800"/>
            <a:ext cx="24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caf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4840" y="2695680"/>
            <a:ext cx="17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i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057320" y="3060720"/>
            <a:ext cx="46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ara llamar por teléfono al extranjer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primero el 00 y lu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l prefijo d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830880" y="3778200"/>
            <a:ext cx="41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órdenes y pedir que los demás hagan al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062000" y="413856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l Director, por fav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7360" y="5073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r permi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061640" y="5425920"/>
            <a:ext cx="35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¿Puedo llamar por teléfono desde aquí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í, claro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llam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200760" y="9986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OS DEL IM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063440" y="2265480"/>
            <a:ext cx="24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nt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un poco más de so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062000" y="4398840"/>
            <a:ext cx="28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or favo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dígal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que he llam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61280" y="4648320"/>
            <a:ext cx="32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rlos, guapo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yúdam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 llevar 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9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3:29Z</dcterms:created>
  <dc:creator>USER</dc:creator>
  <dc:description/>
  <dc:language>en-US</dc:language>
  <cp:lastModifiedBy>Susana</cp:lastModifiedBy>
  <cp:lastPrinted>2007-06-19T14:16:16Z</cp:lastPrinted>
  <dcterms:modified xsi:type="dcterms:W3CDTF">2015-07-01T12:31:37Z</dcterms:modified>
  <cp:revision>77</cp:revision>
  <dc:subject/>
  <dc:title>Παρουσίαση του PowerPoint</dc:title>
</cp:coreProperties>
</file>